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92C-966F-46F8-8988-954B948F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491-2F9E-4C94-B1F0-5E603DE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E45-0590-49B0-8387-34F0369B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EB9-ECEB-4D73-BFB5-53E9046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1A2-8505-42D9-BA1F-FCBB6A21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CA9-558B-47A4-A165-C380666D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C94-777B-4B27-9C19-EAF6543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292-9EF5-49C2-9515-A697C842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26E-9372-4C86-804F-D96FA9CD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D75-9931-45A8-AD2B-BABB572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82B-D078-474A-B536-C84D893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A9A-F3DB-43A4-9A80-F9074CC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2B98-8AB4-427D-B492-969C51C59C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5FA7-B500-4CFA-A3F1-E88489B9E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0" y="6324480"/>
            <a:ext cx="9144000" cy="520920"/>
          </a:xfrm>
          <a:prstGeom prst="pie">
            <a:avLst/>
          </a:prstGeom>
          <a:solidFill>
            <a:srgbClr val="feba1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New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Perspectives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on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Microsoft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Excel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515280" y="216000"/>
            <a:ext cx="2489040" cy="33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2870280"/>
            <a:ext cx="9144000" cy="1866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42560" y="1066680"/>
            <a:ext cx="732672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MSOffice Excel - Part 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Calculating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Data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with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Formulas</a:t>
            </a:r>
            <a:r>
              <a:rPr b="1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04480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Func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:\Users\PCS\Desktop\téléchargement.jpg"/>
          <p:cNvPicPr/>
          <p:nvPr/>
        </p:nvPicPr>
        <p:blipFill>
          <a:blip r:embed="rId3"/>
          <a:stretch/>
        </p:blipFill>
        <p:spPr>
          <a:xfrm>
            <a:off x="7289640" y="72540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96880" y="1739880"/>
            <a:ext cx="7975800" cy="360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31000" y="406440"/>
            <a:ext cx="5936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76240" y="1434960"/>
            <a:ext cx="7429680" cy="474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34600" y="406440"/>
            <a:ext cx="356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84280" y="3035160"/>
            <a:ext cx="7937280" cy="308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11280" y="139680"/>
            <a:ext cx="699444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Quic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alysi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510840" y="1320840"/>
            <a:ext cx="795744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12280" y="520560"/>
            <a:ext cx="759888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van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s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enthe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31440" y="584280"/>
            <a:ext cx="78811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Choo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igh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Summary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p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scepti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ar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m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EDI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ar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treme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m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otenti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k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534600" y="406440"/>
            <a:ext cx="462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ser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551520" y="1384200"/>
            <a:ext cx="8066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622440" y="3187800"/>
            <a:ext cx="786132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"/>
          <p:cNvSpPr/>
          <p:nvPr/>
        </p:nvSpPr>
        <p:spPr>
          <a:xfrm>
            <a:off x="568800" y="495360"/>
            <a:ext cx="8146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Inser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gan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1282680" y="2819520"/>
            <a:ext cx="6578640" cy="341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607320" y="190440"/>
            <a:ext cx="80686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Library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Inser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soci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56560" y="571680"/>
            <a:ext cx="7471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27040" y="406440"/>
            <a:ext cx="603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lat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513720" y="1397160"/>
            <a:ext cx="800244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B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relativ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/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4720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44680" y="1346040"/>
            <a:ext cx="14256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65080" y="1409760"/>
            <a:ext cx="735012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ans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200" y="3683160"/>
            <a:ext cx="852660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434960" y="1371600"/>
            <a:ext cx="6426360" cy="48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632520" y="431640"/>
            <a:ext cx="8018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lativ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27760" y="406440"/>
            <a:ext cx="622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bsolu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49320" y="1460520"/>
            <a:ext cx="856296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sig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$B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ropr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du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m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d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663560" y="1359000"/>
            <a:ext cx="6121440" cy="486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597240" y="139680"/>
            <a:ext cx="5764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bsolu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27400" y="406440"/>
            <a:ext cx="5613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495720" y="1359000"/>
            <a:ext cx="806364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k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$B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968480" y="1282680"/>
            <a:ext cx="5854680" cy="494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19480" y="406440"/>
            <a:ext cx="5806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183600" y="330120"/>
            <a:ext cx="845892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he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Us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lative,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bsolute,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Mix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e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bsolu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ix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d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reat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yc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2298600" y="1206360"/>
            <a:ext cx="4622760" cy="4927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527400" y="406440"/>
            <a:ext cx="436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3.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1981080" y="1206360"/>
            <a:ext cx="5257800" cy="4927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21640" y="406440"/>
            <a:ext cx="683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gic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523440" y="1384200"/>
            <a:ext cx="790704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nd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g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44600" y="1968480"/>
            <a:ext cx="8140680" cy="266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08680" y="546120"/>
            <a:ext cx="749196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eek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457200" y="2527200"/>
            <a:ext cx="8102520" cy="198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511200" y="1308240"/>
            <a:ext cx="80456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1434960" y="2273400"/>
            <a:ext cx="5892840" cy="2438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505080" y="177840"/>
            <a:ext cx="741024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507240" y="4724280"/>
            <a:ext cx="69357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60240" y="1663560"/>
            <a:ext cx="7823520" cy="353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606960" y="139680"/>
            <a:ext cx="679968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utoFil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1270080" y="2362320"/>
            <a:ext cx="6743520" cy="3759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523080" y="406440"/>
            <a:ext cx="6789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506160" y="1308240"/>
            <a:ext cx="810648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hedu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r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546120" y="139680"/>
            <a:ext cx="819108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spla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urr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513360" y="114480"/>
            <a:ext cx="76474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spla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urr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89360" y="2019240"/>
            <a:ext cx="819396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e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ibr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group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DAY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dicat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D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gu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TODAY(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538560" y="406440"/>
            <a:ext cx="3304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507960" y="1409760"/>
            <a:ext cx="819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—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beca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o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8560" y="406440"/>
            <a:ext cx="3304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14440" y="1434960"/>
            <a:ext cx="80013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—wh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—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nbla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556200" y="546120"/>
            <a:ext cx="767592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gic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cision-m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p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ppo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1168560" y="2603520"/>
            <a:ext cx="6883200" cy="2146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37480" y="406440"/>
            <a:ext cx="527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mparis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54720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493920" y="1384200"/>
            <a:ext cx="815616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35040" y="3492360"/>
            <a:ext cx="7848720" cy="2527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510840" y="469800"/>
            <a:ext cx="76525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544680" y="2793960"/>
            <a:ext cx="70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1433880" y="2882880"/>
            <a:ext cx="42314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ogical_tes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value_if_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5933160" y="2882880"/>
            <a:ext cx="23324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_if_fa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"/>
          <p:cNvSpPr/>
          <p:nvPr/>
        </p:nvSpPr>
        <p:spPr>
          <a:xfrm>
            <a:off x="525600" y="406440"/>
            <a:ext cx="5604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33840" y="1460520"/>
            <a:ext cx="861912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ar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pu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xamp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percentag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roug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rresp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ppl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A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"/>
          <p:cNvSpPr/>
          <p:nvPr/>
        </p:nvSpPr>
        <p:spPr>
          <a:xfrm>
            <a:off x="536760" y="406440"/>
            <a:ext cx="32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501480" y="1320840"/>
            <a:ext cx="816660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o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tr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gan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168560" y="2247840"/>
            <a:ext cx="6883200" cy="2857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"/>
          <p:cNvSpPr/>
          <p:nvPr/>
        </p:nvSpPr>
        <p:spPr>
          <a:xfrm>
            <a:off x="517320" y="88920"/>
            <a:ext cx="8084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rgu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LOOK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"/>
          <p:cNvSpPr/>
          <p:nvPr/>
        </p:nvSpPr>
        <p:spPr>
          <a:xfrm>
            <a:off x="526680" y="406440"/>
            <a:ext cx="640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erform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hat-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495720" y="1422360"/>
            <a:ext cx="816552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tg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7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$10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43080"/>
                <a:tab algn="l" pos="39384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$20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d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"/>
          <p:cNvSpPr/>
          <p:nvPr/>
        </p:nvSpPr>
        <p:spPr>
          <a:xfrm>
            <a:off x="506520" y="520560"/>
            <a:ext cx="76737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ri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-and-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uess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stim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"/>
          <p:cNvSpPr/>
          <p:nvPr/>
        </p:nvSpPr>
        <p:spPr>
          <a:xfrm>
            <a:off x="525240" y="406440"/>
            <a:ext cx="3737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G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495360" y="1409760"/>
            <a:ext cx="81788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m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-and-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em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so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r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939960" y="2921040"/>
            <a:ext cx="7340400" cy="1511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21640" y="406440"/>
            <a:ext cx="492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G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e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ialo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"/>
          <p:cNvSpPr/>
          <p:nvPr/>
        </p:nvSpPr>
        <p:spPr>
          <a:xfrm>
            <a:off x="8888040" y="6566040"/>
            <a:ext cx="156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197080" y="1282680"/>
            <a:ext cx="4686480" cy="491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31360" y="406440"/>
            <a:ext cx="630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120760" y="1359000"/>
            <a:ext cx="4978440" cy="485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09120" y="431640"/>
            <a:ext cx="7341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Reference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526320" y="406440"/>
            <a:ext cx="762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a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er-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6160" y="1523880"/>
            <a:ext cx="86000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la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dust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jarg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Industry-specifi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rm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chnic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rm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60240" y="2349360"/>
            <a:ext cx="7912440" cy="382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30280" y="457200"/>
            <a:ext cx="78166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a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User-Frie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ty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fferent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901800" y="4025880"/>
            <a:ext cx="609588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825480" y="5118120"/>
            <a:ext cx="726444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23440" y="546120"/>
            <a:ext cx="777996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synta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qu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dic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2000" y="6566040"/>
            <a:ext cx="2688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S</dc:creator>
  <dc:description/>
  <dc:language>en-US</dc:language>
  <cp:lastModifiedBy>PCS</cp:lastModifiedBy>
  <dcterms:modified xsi:type="dcterms:W3CDTF">2014-03-01T09:39:35Z</dcterms:modified>
  <cp:revision>6</cp:revision>
  <dc:subject/>
  <dc:title>Slide 1</dc:title>
</cp:coreProperties>
</file>